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1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45.xml.rels" ContentType="application/vnd.openxmlformats-package.relationships+xml"/>
  <Override PartName="/ppt/slides/_rels/slide336.xml.rels" ContentType="application/vnd.openxmlformats-package.relationships+xml"/>
  <Override PartName="/ppt/slides/_rels/slide341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40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67.xml.rels" ContentType="application/vnd.openxmlformats-package.relationships+xml"/>
  <Override PartName="/ppt/slides/_rels/slide363.xml.rels" ContentType="application/vnd.openxmlformats-package.relationships+xml"/>
  <Override PartName="/ppt/slides/_rels/slide358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102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143.xml.rels" ContentType="application/vnd.openxmlformats-package.relationships+xml"/>
  <Override PartName="/ppt/slides/_rels/slide290.xml.rels" ContentType="application/vnd.openxmlformats-package.relationships+xml"/>
  <Override PartName="/ppt/slides/_rels/slide311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9.xml.rels" ContentType="application/vnd.openxmlformats-package.relationships+xml"/>
  <Override PartName="/ppt/slides/_rels/slide356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97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71.xml.rels" ContentType="application/vnd.openxmlformats-package.relationships+xml"/>
  <Override PartName="/ppt/slides/_rels/slide200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167.xml.rels" ContentType="application/vnd.openxmlformats-package.relationships+xml"/>
  <Override PartName="/ppt/slides/_rels/slide78.xml.rels" ContentType="application/vnd.openxmlformats-package.relationships+xml"/>
  <Override PartName="/ppt/slides/_rels/slide224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234.xml.rels" ContentType="application/vnd.openxmlformats-package.relationships+xml"/>
  <Override PartName="/ppt/slides/_rels/slide229.xml.rels" ContentType="application/vnd.openxmlformats-package.relationships+xml"/>
  <Override PartName="/ppt/slides/_rels/slide236.xml.rels" ContentType="application/vnd.openxmlformats-package.relationships+xml"/>
  <Override PartName="/ppt/slides/_rels/slide254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60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235.xml.rels" ContentType="application/vnd.openxmlformats-package.relationships+xml"/>
  <Override PartName="/ppt/slides/_rels/slide63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344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36.xml.rels" ContentType="application/vnd.openxmlformats-package.relationships+xml"/>
  <Override PartName="/ppt/slides/_rels/slide332.xml.rels" ContentType="application/vnd.openxmlformats-package.relationships+xml"/>
  <Override PartName="/ppt/slides/_rels/slide41.xml.rels" ContentType="application/vnd.openxmlformats-package.relationships+xml"/>
  <Override PartName="/ppt/slides/_rels/slide205.xml.rels" ContentType="application/vnd.openxmlformats-package.relationships+xml"/>
  <Override PartName="/ppt/slides/_rels/slide210.xml.rels" ContentType="application/vnd.openxmlformats-package.relationships+xml"/>
  <Override PartName="/ppt/slides/_rels/slide184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339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345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77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57.xml.rels" ContentType="application/vnd.openxmlformats-package.relationships+xml"/>
  <Override PartName="/ppt/slides/_rels/slide348.xml.rels" ContentType="application/vnd.openxmlformats-package.relationships+xml"/>
  <Override PartName="/ppt/slides/_rels/slide353.xml.rels" ContentType="application/vnd.openxmlformats-package.relationships+xml"/>
  <Override PartName="/ppt/slides/_rels/slide367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315.xml.rels" ContentType="application/vnd.openxmlformats-package.relationships+xml"/>
  <Override PartName="/ppt/slides/_rels/slide294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278.xml.rels" ContentType="application/vnd.openxmlformats-package.relationships+xml"/>
  <Override PartName="/ppt/slides/_rels/slide283.xml.rels" ContentType="application/vnd.openxmlformats-package.relationships+xml"/>
  <Override PartName="/ppt/slides/_rels/slide304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8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279.xml.rels" ContentType="application/vnd.openxmlformats-package.relationships+xml"/>
  <Override PartName="/ppt/slides/_rels/slide284.xml.rels" ContentType="application/vnd.openxmlformats-package.relationships+xml"/>
  <Override PartName="/ppt/slides/_rels/slide305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9.xml.rels" ContentType="application/vnd.openxmlformats-package.relationships+xml"/>
  <Override PartName="/ppt/slides/_rels/slide293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211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366.xml" ContentType="application/vnd.openxmlformats-officedocument.presentationml.slide+xml"/>
  <Override PartName="/ppt/slides/slide10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68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364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365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270.xml" ContentType="application/vnd.openxmlformats-officedocument.presentationml.slide+xml"/>
  <Override PartName="/ppt/slides/slide271.xml" ContentType="application/vnd.openxmlformats-officedocument.presentationml.slide+xml"/>
  <Override PartName="/ppt/slides/slide272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347.xml" ContentType="application/vnd.openxmlformats-officedocument.presentationml.slide+xml"/>
  <Override PartName="/ppt/slides/slide181.xml" ContentType="application/vnd.openxmlformats-officedocument.presentationml.slide+xml"/>
  <Override PartName="/ppt/slides/slide113.xml" ContentType="application/vnd.openxmlformats-officedocument.presentationml.slide+xml"/>
  <Override PartName="/ppt/slides/slide275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280.xml" ContentType="application/vnd.openxmlformats-officedocument.presentationml.slide+xml"/>
  <Override PartName="/ppt/slides/slide281.xml" ContentType="application/vnd.openxmlformats-officedocument.presentationml.slide+xml"/>
  <Override PartName="/ppt/slides/slide282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7.xml" ContentType="application/vnd.openxmlformats-officedocument.presentationml.slide+xml"/>
  <Override PartName="/ppt/slides/slide357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85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340.xml" ContentType="application/vnd.openxmlformats-officedocument.presentationml.slide+xml"/>
  <Override PartName="/ppt/slides/slide341.xml" ContentType="application/vnd.openxmlformats-officedocument.presentationml.slide+xml"/>
  <Override PartName="/ppt/slides/slide342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291.xml" ContentType="application/vnd.openxmlformats-officedocument.presentationml.slide+xml"/>
  <Override PartName="/ppt/slides/slide34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292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35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262.xml" ContentType="application/vnd.openxmlformats-officedocument.presentationml.slide+xml"/>
  <Override PartName="/ppt/slides/slide367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330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331.xml" ContentType="application/vnd.openxmlformats-officedocument.presentationml.slide+xml"/>
  <Override PartName="/ppt/slides/slide261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260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52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360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299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98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9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70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89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286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0.xml" ContentType="application/vnd.openxmlformats-officedocument.presentationml.slide+xml"/>
  <Override PartName="/ppt/slides/slide293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  <p:sldId id="600" r:id="rId348"/>
    <p:sldId id="601" r:id="rId349"/>
    <p:sldId id="602" r:id="rId350"/>
    <p:sldId id="603" r:id="rId351"/>
    <p:sldId id="604" r:id="rId352"/>
    <p:sldId id="605" r:id="rId353"/>
    <p:sldId id="606" r:id="rId354"/>
    <p:sldId id="607" r:id="rId355"/>
    <p:sldId id="608" r:id="rId356"/>
    <p:sldId id="609" r:id="rId357"/>
    <p:sldId id="610" r:id="rId358"/>
    <p:sldId id="611" r:id="rId359"/>
    <p:sldId id="612" r:id="rId360"/>
    <p:sldId id="613" r:id="rId361"/>
    <p:sldId id="614" r:id="rId362"/>
    <p:sldId id="615" r:id="rId363"/>
    <p:sldId id="616" r:id="rId364"/>
    <p:sldId id="617" r:id="rId365"/>
    <p:sldId id="618" r:id="rId366"/>
    <p:sldId id="619" r:id="rId367"/>
    <p:sldId id="620" r:id="rId368"/>
    <p:sldId id="621" r:id="rId369"/>
    <p:sldId id="622" r:id="rId370"/>
    <p:sldId id="623" r:id="rId371"/>
    <p:sldId id="624" r:id="rId372"/>
    <p:sldId id="625" r:id="rId3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slide" Target="slides/slide345.xml"/><Relationship Id="rId349" Type="http://schemas.openxmlformats.org/officeDocument/2006/relationships/slide" Target="slides/slide346.xml"/><Relationship Id="rId350" Type="http://schemas.openxmlformats.org/officeDocument/2006/relationships/slide" Target="slides/slide347.xml"/><Relationship Id="rId351" Type="http://schemas.openxmlformats.org/officeDocument/2006/relationships/slide" Target="slides/slide348.xml"/><Relationship Id="rId352" Type="http://schemas.openxmlformats.org/officeDocument/2006/relationships/slide" Target="slides/slide349.xml"/><Relationship Id="rId353" Type="http://schemas.openxmlformats.org/officeDocument/2006/relationships/slide" Target="slides/slide350.xml"/><Relationship Id="rId354" Type="http://schemas.openxmlformats.org/officeDocument/2006/relationships/slide" Target="slides/slide351.xml"/><Relationship Id="rId355" Type="http://schemas.openxmlformats.org/officeDocument/2006/relationships/slide" Target="slides/slide352.xml"/><Relationship Id="rId356" Type="http://schemas.openxmlformats.org/officeDocument/2006/relationships/slide" Target="slides/slide353.xml"/><Relationship Id="rId357" Type="http://schemas.openxmlformats.org/officeDocument/2006/relationships/slide" Target="slides/slide354.xml"/><Relationship Id="rId358" Type="http://schemas.openxmlformats.org/officeDocument/2006/relationships/slide" Target="slides/slide355.xml"/><Relationship Id="rId359" Type="http://schemas.openxmlformats.org/officeDocument/2006/relationships/slide" Target="slides/slide356.xml"/><Relationship Id="rId360" Type="http://schemas.openxmlformats.org/officeDocument/2006/relationships/slide" Target="slides/slide357.xml"/><Relationship Id="rId361" Type="http://schemas.openxmlformats.org/officeDocument/2006/relationships/slide" Target="slides/slide358.xml"/><Relationship Id="rId362" Type="http://schemas.openxmlformats.org/officeDocument/2006/relationships/slide" Target="slides/slide359.xml"/><Relationship Id="rId363" Type="http://schemas.openxmlformats.org/officeDocument/2006/relationships/slide" Target="slides/slide360.xml"/><Relationship Id="rId364" Type="http://schemas.openxmlformats.org/officeDocument/2006/relationships/slide" Target="slides/slide361.xml"/><Relationship Id="rId365" Type="http://schemas.openxmlformats.org/officeDocument/2006/relationships/slide" Target="slides/slide362.xml"/><Relationship Id="rId366" Type="http://schemas.openxmlformats.org/officeDocument/2006/relationships/slide" Target="slides/slide363.xml"/><Relationship Id="rId367" Type="http://schemas.openxmlformats.org/officeDocument/2006/relationships/slide" Target="slides/slide364.xml"/><Relationship Id="rId368" Type="http://schemas.openxmlformats.org/officeDocument/2006/relationships/slide" Target="slides/slide365.xml"/><Relationship Id="rId369" Type="http://schemas.openxmlformats.org/officeDocument/2006/relationships/slide" Target="slides/slide366.xml"/><Relationship Id="rId370" Type="http://schemas.openxmlformats.org/officeDocument/2006/relationships/slide" Target="slides/slide367.xml"/><Relationship Id="rId371" Type="http://schemas.openxmlformats.org/officeDocument/2006/relationships/slide" Target="slides/slide368.xml"/><Relationship Id="rId372" Type="http://schemas.openxmlformats.org/officeDocument/2006/relationships/slide" Target="slides/slide369.xml"/><Relationship Id="rId373" Type="http://schemas.openxmlformats.org/officeDocument/2006/relationships/slide" Target="slides/slide370.xml"/><Relationship Id="rId3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09640" y="511092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8736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028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9092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0964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028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9092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2F5-BD00-4E78-B1EF-047F33BC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348-6CE7-4923-92ED-1BEFF545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C22-6671-4ACB-A3F7-E462FDE4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89F-1E3E-41C2-A4A3-15BF1B91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E9C-49A9-429E-87D7-F55131C6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28240"/>
            <a:ext cx="8229600" cy="13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4C6-8FD8-4B01-BA35-FFF4C2B2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3AB-3339-451F-B264-A37BD37F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8736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53D-BE11-4DC1-A5CF-8128C842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632-1FE5-42FB-83C0-F9D8A82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09640" y="511092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BF4-DEFF-484F-A384-39FFB97E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8736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3A5-E68F-43B1-B320-50E4C8CB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028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9092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0964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0028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9092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DAA-4E08-4299-AA07-79110F11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28240"/>
            <a:ext cx="8229600" cy="13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8736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74680" y="0"/>
            <a:ext cx="549360" cy="30384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253200" cy="162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90800" y="3025800"/>
            <a:ext cx="6253200" cy="708120"/>
            <a:chOff x="2890800" y="3025800"/>
            <a:chExt cx="6253200" cy="708120"/>
          </a:xfrm>
        </p:grpSpPr>
        <p:sp>
          <p:nvSpPr>
            <p:cNvPr id="102" name=""/>
            <p:cNvSpPr/>
            <p:nvPr/>
          </p:nvSpPr>
          <p:spPr>
            <a:xfrm>
              <a:off x="7361280" y="3025800"/>
              <a:ext cx="1628640" cy="708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0800" y="3344760"/>
              <a:ext cx="6253200" cy="1634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64000"/>
          </a:bodyPr>
          <a:p>
            <a:pPr marL="21924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lick to edit the outline text forma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1" marL="219240" indent="-219240" algn="ctr">
              <a:spcBef>
                <a:spcPts val="11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cond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2" marL="219240" indent="-219240" algn="ctr">
              <a:spcBef>
                <a:spcPts val="11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ird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3" marL="219240" indent="-219240" algn="ctr">
              <a:spcBef>
                <a:spcPts val="11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ourth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4" marL="219240" indent="-219240" algn="ctr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ifth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5" marL="219240" indent="-219240" algn="ctr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ixth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6" marL="219240" indent="-219240" algn="ctr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venth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3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 type="dt" idx="1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2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3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FF7D-7D48-4B7C-89B7-9E65D84DFE0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lick to edit the outline text forma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1" marL="32436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2" marL="608400" algn="ctr">
              <a:spcBef>
                <a:spcPts val="11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3" marL="852120" algn="ctr">
              <a:spcBef>
                <a:spcPts val="11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4" marL="1095480" algn="ctr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5" marL="1095480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6" marL="1095480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land did Napoleon come fro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rsic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formed the Quadruple Alliance against hi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, Austria, Prussia,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Marx’s major work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mmunist Manifest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4 parts of the Charter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universal suff, salaries for Commons, no prop. req., annual elections, equal distric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Marx feel was necessary to reorganize society?  Would this entity be permanen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ictatorship of the proletariat, n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Marx’s chief cohort?  What did they believe was the main purpose of the modern stat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ngels, committee that allowed the ownership class to exploit the worker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Marx believe would be the culminating event of histor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lash between P &amp; B, leading to a society without oppress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anarchists want?  W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nd to ind. &amp; Gov’t, because ind. &amp; gov’t limit freedom in people’s liv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3 general causes of the Revs. of 1848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unger (bad harvests), unemployment, poor living &amp; working conditions, political oppress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many separate revolts took place in 1848?  Which was the first major uprising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Over 50, the February Revolution in Fr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chief cause of the start of the February French Rev. of 1848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pression by Louis Phillippe (banning the banquet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poor flood into Paris as soon as the Rev. bega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o work in the workshop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foreign minister from Austria comes to the fore at the COV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etternic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first example of class warfare?  Who were the two groups involve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June Days of the French Rev. of 1848, the radical working poor and the French Arm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main thing that helped Louis Napoleon get electe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ame recognition &amp; desire for orde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led the revolt in Vienna?  What major figure fled at the start of their uprising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cademic legions (student nationalists), Metternic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The Magyars blew it because they ______ when they tried to rebel against the Austrian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nnexed Romania, Croatia &amp; Serbia (treated others like the Austrians had treated the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rulers all over the Germanic Confederation respond to the uprisings by workers and peasants in 1848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de concessions, promised constitutions, and sent reps to the Frankfurt Parlia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were in the Frankfurt Parliament?  What was their chief task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iberals, write a cons. for united German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members of the Frankfurt Parliament fai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oo liberal (ignored Conservatives &amp; workers) and too slow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group did Guiseppe Mazzini lead?  What did the group wan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Young Italy, a united Italy with a republican govern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the Pope respond to the declaration of a Roman Republic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e fled, was not as liberal as he claimed to b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goes in to Italy to squash revolt &amp; put the Pope back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ance &amp; Louis Napole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reaty and 2 battles were key in giving Napoleon control of Europ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usterlitz (Austria), Jena (Prussia), and the Treaty of Tilsit with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two Great Powers fought Russia in the Crimean War? What 2 powers stayed neutral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France &amp; GB, Prussia &amp; Austri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the Russians’ goals in the Crimean Wa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Protect the Xians in Ottoman Empire, territorial gains (WWPs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impact did the Crimean war have on the Concert of Europ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nded it (broke up order of COV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impact did this break up have on Germany &amp; Ital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llowed for their unification (since powers couldn’t unite against it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was Piedmont the natural place for Italian unification to star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most independent &amp; industria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did Cavour think was the key to unification of Ital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conomic strength that would make Italy a viable state and a monarchy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ich “romantic republican” founded the Young Italian Society?  What was their goal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Guiseppe Mazzini, a unified Italy with a republican gov’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did the Pope resist Italian unification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wanted to keep the independence of the Papal States (which were under his control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o did Cavour secure help from in Piedmont’s fight against Austria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apoleon III (France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priorities did Garibaldi demonstrate when he turned over Southern Italy to Cavou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ationalism over republicanism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he declare in the Berlin Decre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art of Cont. system, no trade with 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o was the first king of a united Ital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Victor Emmanuel (of Piedmont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state was sick of being second to Austria in Germany?  Who was it’s chief minister in 1862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Prussia, Otto von Bismarck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Bismarck wanted unification by ____ &amp; ____, which symbolized wha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blood &amp; iron, war &amp; industrial strength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as the first “war of German unification” &amp; what was at stak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Danish War (1864), Holstein &amp; Schleswig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How did Bismarck use the Danish war to deal with Austria?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onflict over spoils of war leads to Austro-Prussian War in 1866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document played on French fears &amp; started the Franco-Prussian War? What did the French fea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ms Dispatch, a Hohenzollern king of Spain (Germans on both sides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Name 2 key outcomes of the Franco-Prussian War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nd of Nap III (start of 3rd Rep.), finalizes Ger. Uni. (southern states), new mil. tactic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How did Bismarck, a conservative, overcame the Ger. Libs.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Using cons. Institutions (e.g. army),  F-P war, N. Ger. Confed.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forced Napoleon III to be more liberal at hom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foreign policy failures (Italy &amp; Mexico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Describe the politics of the Paris Commune relative to the French provinces.  What was the Paris Commune pushing for in 1871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More radical, a radical French republic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supported the Spanish Guerillas against Napp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C Church &amp; GB (Wellington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group lay siege to Paris to remove the Commune from power? What did Marxists call this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French Army under orders of NA, class warfar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did French Monarchists in the NA fail to establish a monarchy?  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ouldn’t find a king (Bourbon refused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as the Dreyfus Affai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Jewish French Army captain unjustly accused of spying for Germany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Name two key outcomes of the Dreyfus Affair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leared way for 3rd Rep., embarrassed Conservs., demonstrated anti-Semitism of the er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3 chief characteristics of Austria in 1860?  Why did these characteristics conflict with the rest of Europ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dynastic, absolutist &amp; agrarian, rest of Europe was becoming more industrial and democratic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forced the Hapsburgs to deal with the Magyars in 1867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o support from Russia, loss in A-P wa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Name two characteristics of the Dual Monarchy of A-H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one king, separate legislatures, separate countries, some common ministers, common foreign policy &amp; defens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area were Austria &amp; Russia rivals for influence in the late 1800s?  What major event will this lead to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e Balkans, World War I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How did the other nats. in the Austrian emp react to the Dual Monarchy? Which nat. was most outspoken for equalit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Wanted similar deal, Czech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the three chief areas of Alex II’s reforms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rmy, serfs, government/judicia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was the war with Spain a major problem for Napp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low drain on resourc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Describe the cycle that Alex II’s reforms started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reform </a:t>
            </a:r>
            <a:r>
              <a:rPr b="0" i="1" lang="en-US" sz="4800" spc="-1" strike="noStrike">
                <a:solidFill>
                  <a:srgbClr val="646331"/>
                </a:solidFill>
                <a:latin typeface="Wingdings"/>
                <a:ea typeface="Wingdings"/>
              </a:rPr>
              <a:t></a:t>
            </a: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revolutionary activity </a:t>
            </a:r>
            <a:r>
              <a:rPr b="0" i="1" lang="en-US" sz="4800" spc="-1" strike="noStrike">
                <a:solidFill>
                  <a:srgbClr val="646331"/>
                </a:solidFill>
                <a:latin typeface="Wingdings"/>
                <a:ea typeface="Wingdings"/>
              </a:rPr>
              <a:t></a:t>
            </a: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 repressio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How did  “Land &amp; Freedom”  try to start a revolution in Russia in the early 1870’s? What offshoot group assassinated Alex II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ducating the peasants, People’s Wil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did Alex III do to step up repression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ecret police, censorship, repeal reform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Name 2 ways Gladstone opened up traditionally Aristocratic Institutions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S exams, no ang. reqs. @ Ox. &amp; Cam., can’t buy commissions, secret ballo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did Disraeli, a conservative, allow the expansion of suffrage in 1867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ought new voters would vote conservativ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did many Irish landlords do with their peasants during the Potato famin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victed them &amp; shipped them to the U.S.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the two major problems that faced the Irish in the 1800s? What PM first tried to address thes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nglish Prot. landlords &amp; tithes to Church of Ireland, Gladston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o traditionally opposed Irish Home Rule? Wh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e Conservatives, represented the Anglican Church &amp; the interests of the landlord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did Northern Ireland remain under the control of GB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it had a Protestant majority (Ulstermen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things that use the internal combustion engine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rs, subs, plan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At what time was he at his territorial peak? What basic area did he control at this tim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1810-11, the majority of continental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he industries associated with the 2nd ind rev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eel, chemicals, oi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reasons why cities were restructured in the late 1800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ealth, troop movement, centers for commerce, etc, housing refor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reated a real interest in public health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C fear of cholera, new understanding of diseas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hings helped create new jobs for women in the late 18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rps, burs, new tech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goal of the 2nd Internationa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unify soc. parties &amp; un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parliamentary social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orking within assembly to make chang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things MC women in the late 1800’s were expected to do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ovide home of virtue, lead family’s religious life, consume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2 primary concerns of early unio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ages &amp; working condit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sues made it hard for women to unify in their struggle for equal right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lass issues, national interests, differences over tactic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ountry took the lead in social refor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the Czar of Russia at the time of Napoleon?  Name 2 areas where he clashed w/ Nappy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lexander I; Grand Duchy of Warsaw, possible marriage to his daughter, restrictions of Continental Syste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Nicholas II respond to the December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October Manifest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Oct. Manifesto call fo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emocratic gov’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made Marxism the main brand of socialism in the 187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1st Internationa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revisionists like Bernstein believe revolts would never happen in Ger. &amp; Fra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ock ownership, broader franchise, improved standard of living (conditions are just getting too good for revolution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principles of Bolshev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ual revolution and elite revolutionary for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problems with Russian industrializa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efficient farming, profits leaving, small WC, bad condit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Bismarck respond to failed repression of the GSP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ocial reforms (insurance &amp; pension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“invisible exports”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surance, shipping, capita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barriers women faced to the professional world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xpectations, lack of ed, hostility &amp; bigotr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re political feminists often associated with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ociali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strategy did the Russians use to defeat Napoleon after his invasion in 1812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corched earth (destroy everything useful &amp; back up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re the Fabia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ritish intellectual non-Marxist sociali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insisted on an elite revolutionary for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eni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middle classes do after the Revs. of 1848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oved to protect their gai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in charge of Russian industrialization in the late 19th Cent.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itt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mprovements were made to cut down on choler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wers &amp; water systems, eliminate slaughterhous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Eiffel tower a symbol of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ance’s industrial strength (Liberalis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new explosives impact trave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R Tunnels through Mtn. rang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omen were paid less because____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“</a:t>
            </a: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idn’t need to support self”, lower skilled work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evelopment left owners with less risk and put casual workers closer to povert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weatshop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components of Russian anti-Semitism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ogroms, internal passports, living restrictions, censorship, limited jobs &amp; educ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rallied to attack Napoleon from the east in 1813-14?  From the wes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ast: Austria, Prussia &amp; Russia; West: Great Britai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educational revolution of the late 1800s help people break free fro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tellectual surrounding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Give an examples of the clash between Church and state in the late 1800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’s Kulturkampf, GB over education, Fr. 3rd Rep vs. RC Churc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’s philosophy marked a departure from rational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ederich Nietzsch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types of intellectuals that are challenging the Church in the late 1800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istorians (evidence of JC), scientists (creation), soc. scientists (religion is a natural pheno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s of things did Freud say might cause psychological problem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hildhood experiences, excessive repression, exposure to Kilme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has Freud’s thinking affected our modern worl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hanged the way we view things, events, and most importantly peopl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Nietzsche insist man must do to achieve greatnes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ollow his instincts and pursue ecstas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Nietzsche claim Christianity and Democracy had done to ma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de him meek and mediocr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Weber claim was the most significant development of the 19th Cent.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ureaucratiza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Weber believe that this had provided for each individua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 role in societ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Nappy benefit from the French Rev.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ationalism, military mobiliza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ere was his final military defeat?  What general led the opposi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aterloo, Wellington (from GB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realists depict the worl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arsh reality of it, no dreams or illusions allowed, emptiness of the bourgeoisi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impressionists attempt to depic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ir full impression of the scene (sight, sound, emotion, light, etc.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modernists try to break free fro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raditional models for art, music, literature, etc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social Darwin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elief in “survival of the fittest” in the social world - those who suffer do so because they are weak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Identify three reasons for New Imperialism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ationalism, industrialism, belief in cultural superiority, spread relig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n what continent was this new imperialism most eviden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fric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at least two of the big trends leading to WWI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dustrial arms race, colonial rivalry, nationalism, allianc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nations started the colonization of Africa? What par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 &amp; France, northern sect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GB’s goal in Afric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pe to Cair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was China ripe for forced trade in the 18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ternal turmoi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his reorganization of the German states calle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nfederation of the Rhin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worst example of European exploitation in Afric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King Leopold in the Cong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only two parts of Africa not colonized by 1900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thiopia and Liber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clashes in Africa that fed animosity against GB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ashoda Crisis and the Boer Wa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U.S. policy for trade in Chin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Open Door Polic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British settlement came out of this polic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ong Kong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was trade with China so important to the Europea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hinese goods were in high demand in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Chinese rebellion in response to the Open Door Polic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oxer Rebell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examples of economically successful colonies in the 18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utch Indonesia and British Ind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countries were huge colonial rivals in the Middle East and As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 &amp;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the British “accidentally” introduce nationalism &amp; liberal ideas in Ind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ducating them in English in the Western fash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he bring an end to the Ancien Regim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pread ideals of Rev. across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Bismarck’s primary foreign policy goa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void 2 front conflic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root of the tension between A-H &amp; Russ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erritorial interests in the Balka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oes France ultimately make an alliance with Russ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ots of $ invested in Russian industr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oes Germany antagonize GB in the early 19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o make themselves look powerful so GB will want to ally with the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does GB make the Entente Cordial with in 1904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n 1914, who belonged to the Triple Allia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taly, Germany, A-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n 1914, Who belonged to the Triple Entent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, France &amp;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event triggered war between these two allianc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ssassination of Archduke Franz Ferdinand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came in to back A-H? Serb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y and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basics of the Schlieffen Pla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wing through France with strong right, defeating them quickly then beating the Russia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goal of the Continental Syste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conomic defeat of 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Schlieffen Plan fail? What did this lead t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eak right, digging trenches on Western Fro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major actions on the Western Front in 1916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 attack on Verdun, Allied offensive at Somm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successful were these actio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ot at al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Allies trying to accomplish at Galipoli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reak through &amp; reestablish connection with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hree weapons that were used first in WWI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chine guns, tanks, airplanes, submarines, poison ga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a war of attri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you try to win by wearing down the other sid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at least 4 causes of the Russian Revolution of 1917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form-revolt-repress, industrialism, Nicky’s a weenie, Rev. of 1905, Crimea, R-J War, Duma-Duma-Dum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took control in the March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iberals/cadets (Provisional Gov’t lead by Kerensky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snuck Lenin back into Russ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brought the U.S. into the wa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Zimmerman Telegram &amp; sinking of the Lusitan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things that led to the downfall of the Continental System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esire for luxury goods, British blockade, lack of unity behind Napoleon, desire to trade with 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Germans do after the Bolsheviks surrendere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aunched an all out attack on the Western Fro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allowed the British and French to hold off this assaul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elp from the U.S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the Germans try to counter the British blockad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ith the U-Boat (unterseebooten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Kerensky (and the provisional gov’t)’s biggest mistak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aying in the war vs. German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treaty of Brest-Litovsk give the Germa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ots of land &amp; an indemnit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Bolsheviks have to sign this treat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eeded to get out of war &amp; focus on keeping contro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the political leader of the Bolsheviks? Military Leade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enin, Trotsk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hree political factions in Russia at the time of the Revolu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ocial Democrats, Social Revolutionaries, Cadets, Czari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Ludendorff surrender before the Allies reached German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anted mild peace according to 14 Poin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hree of Wilson’s 14 Point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ee seas, self determination, open diplomacy, League of Nations, “Peace Without Victory”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2 primary goals of the Congress of Vienn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ke sure that no one state ever dominated agai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major nations were excluded from the Paris Settlemen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USSR, German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4 ways that the Treaty of Versailles was hard on Germany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lame for war, huge reparations, Alsace-Lorraine, small army, dictated, demil-Rhineland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T of V do to A-H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plit it into 6 states, made it a nationalist &amp; economic mes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Wilson cash in his idealism fo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eague of Nat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is WWI truly an end to the old orde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ll old monarchies no longer exist (A-H &amp; Russia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rench warfare suck? (list at least three reasons)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chine guns, trench foot, boredom, shell shock, rats, barbed wir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law allowed RCs to serve in Parliament in 1829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tholic Emancipation Ac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party supported Irish Home Rule through the late 1800s &amp; early 19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iberal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en was the Home Rule Bill eventually passed?  What delayed its implementa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1912, WWI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groups, one political &amp; one military, emerged to lead the Irish Nationalist movement after the Easter Rebellion of 1916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inn Fein and the IR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places did Nappy wind up in exil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lba &amp; St. Helen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mmediately followed the Irish Declaration of Independence in 1919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uerilla war between the IRA &amp; the British?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wo critical ways Ulster is set apart from the rest of Ireland.  What do we commonly call Ulster now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otestant majority &amp; economically prosperous, Northern Ireland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sue separated the moderates and the radicals during the Irish Civil Wa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n oath of allegiance to the crow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2 things that squash Wilson’s vision for peace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atty, economics, &amp; conservatism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o most wanted the Treaty of Versailles enforced? Wh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France, most damaged &amp; all alone vs. Ger.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ere did new industrial comp. come from after WWI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U.S. &amp; Japa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2 groups who fought the Reds in the Russian Civil War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Whites (Cadets), peasants, allie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2 parts of War Communism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heka, seize banks, grain, industry, transpor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was Lenin’s solution to the economic problems the Communists faced after the Russian Civil Wa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ew Economic Policy (NEP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did the NEP allow peasants to do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ell grai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main impacts of the 100 Day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eace tougher for France, kept A,GB &amp; F from fighting with P &amp; 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impact did the NEP have on the communist part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plit i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Lenins death led to a power struggle between whom? Who was the victo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talin &amp; Trotsky, Stali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was the main threat that fascist regimes responded to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pread of communism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do fascist rulers insist the individual must put before everything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e Stat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How did Muss. become Prime Ministe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ppointed by king after Black Shirts march on Rom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two things did France do immediately after WWI to secure themselve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nforce T of V &amp; East Alliances (C, R &amp; Y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did France do in 1923 when Ger. fell behind on reps.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occupied Ruh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How did this impact the Ger. econom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huge inflation, some unemploymen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Describe the economy in GB after WWI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luggish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How did the British working class respond to the 1926 cut in wages forced by the return to the gold std.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General Strike of 1926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reasons he bit the dust in Russia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ld, starvation, scorched earth, won’t give him big battl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is the issue of contention in the Irish Civil Wa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oath of allegianc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group of states was supposed to get self determination after WWI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e successor state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Out of which three former empires were the successor states composed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Germany, A-H, &amp; Russi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ich was the only successful one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zechoslovaki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ich state wanted to unify with Ger.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ustri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How were political parties formed in the Balkan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long ethnic line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1 flaw of the Weimar Cons.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mall party representation &amp; dictatorial power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2 parts of the Nazi Party Platform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331"/>
                </a:solidFill>
                <a:latin typeface="Tahoma"/>
              </a:rPr>
              <a:t>repudiation of T of V, unification of Aust &amp; Ger., eradication of Jews, agrarian reform, confiscation of war profits, etc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first attempted takeover by the Nazi Part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Beer Hall Putsch (Munich, 1923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two things helped reconstruct the Weimar Republic between 1925-1929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Dawes Plan &amp; Locarno agreement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Holy Allia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lexander’s idea that the great powers should bind together and commit to Christian ideals to maintain peace in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id the Dawes Plan do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restructured rep pay back (tied to Ger. economy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Name 2 of the key causes of the Great Depression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Crisis in currency &amp; investments, commodities crisis,  lack of leadership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How did the crash of ‘29 affect U.S. investment in Europe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stopped i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y couldn’t farmers pay their debts in the ‘20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glut of ag. goods in marke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How did most European gov’ts respond to the GD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cut spending, wage &amp; price control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o did the Popular Front in France oppose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right wingers (fascists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o rose to power in response to the GD in Ger.?  Who did they use as scapegoat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Nazis, Jews and Communist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id the clash between von Papen &amp; Schleicher allow to happen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Hitler becoming chancello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id Hitler blame on the Communists &amp; use as an excuse to expand his powe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Reichstag Fir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act of terror made the Nazi anti-Semitic program a clear realit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Kristallnach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ocument gave him this powe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nstitution of Year VIII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ere was “Nappy a Muslim”?  What does this show about his feelings toward relig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gypt, it’s a matter of convenience (he has no 1 strong set of religious view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name of Hitler’s elite secret police force?  Who led i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SS, Himmle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kinds of propaganda were used by the Nazis?  Who was their minister of propaganda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marches, rallies, radio, print; Joseph Goebbel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Nazis’ economic polic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Gear all production toward strong military stat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happened to the rights of organized labor in Germany &amp; Ital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What rights?, they were taken away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two organizations did the Italian Fascists use to control the econom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corporations &amp; syndicate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instrument guided the Soviet economy between 1927 &amp; 1942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the Five Year Plan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id these plans call fo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rapid industrialization w/ specific goals for productio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How did the plans expect to pay for these increase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grain exports from collectivized farm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class strongly opposed collectivized farming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kulak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done to those who opposed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death or imprisonmen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he British minister who came up with a peace plan prior to the COV and two parts of his plan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stlereagh, Bourbons, buffer states, Quad Alli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How much did Soviet industrial production increase between 1928 &amp; 1940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400%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cost of this industrialization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millions of deaths, lack of economic equality, years of self denia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is the Cult of Personalit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worship of the ruler who embodies the greatness of the stat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Stalin’s goal in the great Purge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eliminate all opposition w/in the Party (old Bolsheviks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o would replace these people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new faces loyal only to him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At what point before WWII did Hitler say he was “done” adding territor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after Sudetenland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ere did Hitler look for territory after Czech.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Poland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treaty gauranteed his security on the eastern fron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Nazi-Soviet Non-Aggression Pac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y did the Japanese bomb Pearl Harbo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the U.S cut off shipments of oi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ere was there a great deal of island hopping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Pacific Theate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movement started in Germany in response to Nappy &amp; the F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 Nationalis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goal of Operation Barbarossa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take the USSR before winte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elayed its star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having to go bail out Mussolini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Allied invasion of Normandy called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D-Day/Op. Overlord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ere Truman’s two main options to defeat Japan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invasion or A-Bomb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Vichy governmen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controlled non-occupied France during WWII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event led to hardships on the German homefron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failure of Barbaross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At what point before WWII did Hitler say he was “done” adding territor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after Sudetenland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ere did Hitler look for territory after Czech.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Poland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treaty gauranteed his security on the eastern fron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Nazi-Soviet Non-Aggression Pact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y did the Japanese bomb Pearl Harbo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the U.S cut off shipments of oil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effect does Napoleon have on the political power of the Church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reatly diminishes i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ere was there a great deal of island hopping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Pacific Theater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as the goal of Operation Barbarossa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take the USSR before winter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delayed its star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having to go bail out Mussolini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as the Allied invasion of Normandy called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D-Day/Op. Overlord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ere Truman’s two main options to defeat Japan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invasion or A-Bomb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as the Vichy governmen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controlled non-occupied France during WWII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event led to hardships on the German homefron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failure of Barbarossa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Name the last two big peace conferences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Yalta &amp; Potsdam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How was Germany divided after WWII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4 zones, one each for US, GB, Fr., USSR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How did the U.S. respond to the 1948 blockade of West Berlin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Airlift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ype of government was favored by the Congress of Vienn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egitimate Monarch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divided eastern &amp; western Europe after WWII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iron curtain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did Stalin call his plans for modernizing the USS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5 year plans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Name two things Khruschev did to lessen Stalin’s influence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ome freedoms, ag reform, more consumer goods, Secret Speech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How did the Soviets respond to the 1968 uprising in Cz.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ent in troops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o led Vietnamese resistance to French control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Ho Chi Minh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movement led to independence for Poland in 1989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olidarity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Name the 2 people that created a desire for buffer states in the USSR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Nappy &amp; Adolf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slowed UN actions after WWII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oviet veto on the Security Council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provided US aid to European nations to keep them free from Communism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Marshall Plan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ere the two main treaty organizations of the Cold Wa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NATO &amp; Warsaw Pact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oes the COV attempt to isolate Fra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ts up buffer states around it (Netherlands, Swiss Confed., Sardinia, etc.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as the basic idea of the Truman Doctrin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containment of Communism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Name two of the Crises of 1956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uez, Poland, Hungary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organization was opposed to peace between Israel &amp; Egyp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PLO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How did the U.S. respond to Sputnik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pace raceola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o’s set of major reforms brought an end to the USS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Gorbachev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ere deGaulle’s priorities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hostility to U.S. &amp; GB, nukes, tension w/ NATO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ich half did the US back in both Vietnam &amp; Korea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outh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the two parts of Gorbachev’s reforms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erestroika and glasnos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the satellite states respond to the weakness of the USSR in 1989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“</a:t>
            </a: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volted” for independe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four areas that “revolted” in 1989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oland, E Ger., Czech., Romania, Hungary, 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oes the COV deal with the Confederation of the Rhin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urns it into Germanic Confederation, and Germany remains dissolute (not unified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ill back the State of Israel right from the beginning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U.S. &amp; western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hree possible ways Europe could be unified?  Which was most likel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olitical, military, </a:t>
            </a:r>
            <a:r>
              <a:rPr b="0" i="1" lang="en-US" sz="4400" spc="-1" strike="noStrike" u="sng">
                <a:solidFill>
                  <a:srgbClr val="646331"/>
                </a:solidFill>
                <a:uFillTx/>
                <a:latin typeface="Tahoma"/>
              </a:rPr>
              <a:t>economic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Give two examples of student protest in Europe in 1968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ague and Pari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has the focus of European feminism been for the last 60 year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ocial &amp; workplace equalit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led the movement for Indian independe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ohandas Gandhi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agreement will start to lessen tension between Israel &amp; Egyp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mp David Accord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the basic nature of the problem in the former Yugoslav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ny different ethnic/religious groups, discrimination outside common area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ere is the current conflict ther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Kosovo/Serb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Give two examples of Americaniza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cDonalds, English, Levis, etc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mpact did decolonization have on em/immigra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ormer colonizers &amp; colonial subjects go to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“question” almost pushes the Quadruple Alliance into war with each other during the COV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olish-Saxon ques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existentialists think humans should get their valu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etermine their ow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n what two areas did romanticism flourish?  W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y and GB, most impacted by actions of Napp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is the volksgeis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pirit of the German peopl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his title when he first took over the government?  How much power did it give hi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irst Consul, pretty much absolut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period of history did many romantics look to for inspiration?  How can this be seen in their architectur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iddle Ages, gothic reviva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religious movement best captured the spirit of Romantic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ethodism (John Wesley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Hegel’s view of the ongoing pattern of histor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sis vs. anti-Thesis = Synthesis (which becomes the new thesi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Goethe’s message about knowledge &amp; religion in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Tahoma"/>
              </a:rPr>
              <a:t>Faust</a:t>
            </a: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pursuit of knowledge and a lack of faith can only lead you to the Devi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Kant argue proved the existence of Go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basic moral imperative in all human being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Rousseau serve as a bridge between the enlightenment and the romantic er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mphasis on emotion and total experience in human educa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Romantics reject the classic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ecause they rejected the idea that humans remain basically the same over tim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at least three English romantic poet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Keats, Byron, Wordsworth, Coleridge, Shelley, Johns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3 things Nationalists use to define nations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anguage, ethnicity, history, cultur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did liberals tend to b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ealthy, educated &amp; excluded 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parts of the Napoleonic Code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ivic equality, no guilds, promotion based on merit, end to social hierarchy, religious toler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did liberals want to deny representation to? W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ower classes, unfit for rep (nothing special about the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ountry eventually met reform with accommodation instead of repression?  What’s the best example of thi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reat Britain, Great Reform Bill of 1832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he two major goals of Earl Grey’s reform government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o more rotten boroughs and increase suffrag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re the two main architects of the Congress of Vienn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stleragh &amp; Metternic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nt into Spain to crush their rev.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Act of Union do in 1800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laced Ireland under British rule and allowed them representation in Parlia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many Tories respond to i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idn’t like it, Wellington bails ou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things did the Belgians get their inspiration for revolt fro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ench Rev. of 1830 &amp; the Oper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given control of Belgium at the Congress of Vienna?  Why was Belgium “allowed” to revol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Netherlands, powers too preoccupied/ambivalent to stop i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Great Powers decide to support the Greek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urther weaken the Ottoman Empir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groups supported his rise to powe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ourgeoisie &amp; land owning peasan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was the Great Reform Bill of 1832 such a succes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volution unnecessary, kept institutions, brought economic interests into line with political intere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was Metternich so concerned about the revolt in the 2 Sicili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e wanted that area as a buffer zon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Catholic Emancipation Act d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llowed RC’s to serve in Parlia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Protocol of Troppau d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ave the Great Powers permission to intervene in revolutions “for the good of Europe”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were the biggest proponents of National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riters &amp; historia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were usually conservativ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ristocratic monarchi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ime would the Conservatives liked to return t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e-French Rev.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3 ideals the Liberals took from the Enlightenment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ee press, religious tolerance, equality before the law, unrestricted econom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conservatives view Constitutio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orse than the plagu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led the revolutions in Latin America?  Where did they get their inspira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reole Elite, American Rev &amp; Napp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things he did to squelch his domestic opposi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entralize government, execution, give them high government posts (with little power), secret poli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gained the most economically from the revolutions in L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reat Britai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took over for Castleragh &amp; kept GB from intervening in the Spanish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nning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did the Decembrists want to be Tsar?  Were they more liberal or conservativ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nstantine, libera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wo characteristics of the reign of Nicholas I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pressive, gendarme of Europe, Official Nationality protects from corruption of Wes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g was ousted in the July Revolution?  What did he do to provoke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harles X, ousted liberal ministry – issued 4 (July) ordinances 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lass ousted hi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ourgeoisie, with force provided by the working clas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backed the independent Serbs against the Austria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purpose of the Six Act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ke it easier to repress the reform demanders in 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re the Burchenshafte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udent Nationalist groups in German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happened to the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anned by Metternich &amp; Carlsbad Decre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Nappy sell to the U.S. in 1803 because he needed cash for war?  What U.S. president bought it from hi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ouisiana, Jeffers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ich Karl was bad &amp; became a marty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Karl Sand for killing the conservative playwrigh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basic idea of the Concert of Europ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reat Powers would get together to solve problem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problems led to calls for reform in GB after 1815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unger &amp; Unemploy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ountry/statesman had the most to lose from National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ustria (Metternich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reasons why GB was able to maintain industrial dominance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oreign markets, quality of goods, strong navy, coal &amp; ir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factors that contributed to the rise of the proletariat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age labor market, end of guilds, no longer controlled means of produc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examples of the poor working conditions women faced in the early 1800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xual harassment, wage discrimination, unsafe machiner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things that happened to the family as a result of industrializa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other provides domestic support, less time together, just unit of consump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Factory Act of 1833 d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imited child labor to 9 hrs/day, must be 9, 2 hrs. of ed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led to division of labor by making things in uniform siz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nfection system (uniform size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efeat in 1805 convinced Nappy to turn East in search of territor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rafalgar (the British &amp; Lord Nelson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3 probs. that were evident across Europe in 1848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unger, unemployment, city strife, conservative oppress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action was intended to help feed the poor in Ireland but led to more free grain trad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peal of the Corn Law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the primary basis for classical economic though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free market (Laissez Faire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thought the population would eventually outstrip the food suppl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lthu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se Iron Law of Wages justified low wages?  What else did this justif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icardo, opposition to labor unions who push for high wag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pushed the concept of utility combined with reas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entha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Europeans use as a model for prison refor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isons in U.S. (Philadelphia syste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driving force behind the creation of the modern urban police for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ising crime and the desire of the MC for orde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the pioneer of socialism?  Who did he believe should control the means of produc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aint Simon, industrial and intellectual elit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thought he could successfully build utopias based on textile manufacturing?  Where did he succeed?  Fai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Owen, Scotland &amp; Indian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1:23:39Z</dcterms:created>
  <dc:creator>Preferred User </dc:creator>
  <dc:description/>
  <dc:language>en-US</dc:language>
  <cp:lastModifiedBy>Susan Gregory</cp:lastModifiedBy>
  <cp:lastPrinted>2009-04-22T19:24:48Z</cp:lastPrinted>
  <dcterms:modified xsi:type="dcterms:W3CDTF">2003-05-07T04:51:31Z</dcterms:modified>
  <cp:revision>7</cp:revision>
  <dc:subject/>
  <dc:title>What island did Napoleon come from?</dc:title>
</cp:coreProperties>
</file>